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3DC9-6301-4420-BBBC-19EB2E56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692-212C-4CDE-B1EE-51499BD5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E02-6452-46AD-8D80-6FB9BE1E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656-875A-4011-A994-7DD3C051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D6D8-1EDD-44B0-907A-033DAA80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2543-D2B3-455B-91F4-B027509A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8C28-6C3F-4E1A-B6B1-D54C9CBF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53C6-B5AB-4330-9913-10C89071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50E1-AA81-4669-A535-58B8575D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0EA3-20DC-41BF-A36F-8D3F7031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8AFA-28A1-4679-B286-3CC384AD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130-886A-4C51-B573-9EBE89DD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1C08-86BC-4BF1-93AB-6010B63C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8816-EB63-41BE-A527-945AA3BD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2D38-1738-4EDB-B843-2400029B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4CBD-66A4-45D3-9436-4A5A65D3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02F5-906B-4667-B2B6-8D41D783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154-B62C-44C9-86C7-D815F983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76A1-D76E-4BF5-A09E-819AA595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F09-C915-44D7-B5DC-B48212B8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2D8B-C4BA-4033-87DA-8715714D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690-575E-4E12-92F3-7D30D5B0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CA53-A72D-4F29-AA0F-213D54B6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AF3E-CB7C-49C1-A0AD-BFBE7E92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AE8C-94AA-47E0-A3F6-831889542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A2E7-D538-4817-9AC0-94B192661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audio" Target="../media/jeop.wav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898560" y="152388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 Behav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114800" y="1752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866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92360" y="17524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676520" y="2438280"/>
            <a:ext cx="556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ears spend th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inter in one of these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892320" y="3048120"/>
            <a:ext cx="119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372680" y="2666880"/>
            <a:ext cx="5837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ater is an example of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state of matter.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516120" y="2971800"/>
            <a:ext cx="180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iqui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775520" y="2362320"/>
            <a:ext cx="524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ce is an example of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state of matt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657600" y="30481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oli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855080" y="2209680"/>
            <a:ext cx="5787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n you heat a soli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uch  as plastic, thi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ill happen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287520" y="2819520"/>
            <a:ext cx="211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lt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850400" y="2133720"/>
            <a:ext cx="53301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n water freezes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oes  it expan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r contract?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516480" y="2895480"/>
            <a:ext cx="20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xpan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990720" y="2438280"/>
            <a:ext cx="685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imals appear to sleep through the winter when they do thi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244880" y="2362320"/>
            <a:ext cx="621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n water evaporates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t forms this gas.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971800" y="2514600"/>
            <a:ext cx="319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ater vap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2003760" y="2133720"/>
            <a:ext cx="4804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rn and peas ar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xamples of thes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nt parts.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665160" y="2743200"/>
            <a:ext cx="160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eed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157840" y="2514600"/>
            <a:ext cx="5109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two product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ade from plant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858320" y="2590920"/>
            <a:ext cx="6057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dicines, clothing, oil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pices, lumber, rubber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per, etc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219320" y="2286000"/>
            <a:ext cx="697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nts provide thi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as that all human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eed to survive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439080" y="2743200"/>
            <a:ext cx="211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54720" y="2133720"/>
            <a:ext cx="5074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is an importa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ob bees have t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elp plants.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098960" y="24382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2912400" y="2590920"/>
            <a:ext cx="285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ollin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288600" y="3200400"/>
            <a:ext cx="258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ibernat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2362320" y="19051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color or odor of  this part of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plant attracts be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363480" y="2666880"/>
            <a:ext cx="19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low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304360" y="2286000"/>
            <a:ext cx="3733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oving air i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lled this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577320" y="259092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in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905840" y="2286000"/>
            <a:ext cx="44496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ain, snow, hail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sleet ar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xamples of this.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760480" y="2590920"/>
            <a:ext cx="329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ecipit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621800" y="2209680"/>
            <a:ext cx="54158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n water change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to water vapor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occurs.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985840" y="2666880"/>
            <a:ext cx="24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po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176120" y="2286000"/>
            <a:ext cx="7175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n hot moist air rises an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ets cooler air, it form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ouds because of thi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3444120" y="25909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92840" y="2209680"/>
            <a:ext cx="7835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n animals move to warm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reas for  the winter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y do thi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23200" y="2286000"/>
            <a:ext cx="64292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n there ha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ot been enough rainfall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occur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136320" y="2666880"/>
            <a:ext cx="221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rough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535480" y="2133720"/>
            <a:ext cx="40075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is the first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tage of th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rog's lif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17080" y="2590920"/>
            <a:ext cx="116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g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852920" y="2362320"/>
            <a:ext cx="48031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stage of frog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etween the egg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the adult frog.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499200" y="281952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dpo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776240" y="2590920"/>
            <a:ext cx="475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adpoles live i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environment.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2960640" y="2666880"/>
            <a:ext cx="382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hallow Wat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544400" y="2362320"/>
            <a:ext cx="54979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is the differenc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etween the feet of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ads and frog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756160" y="2590920"/>
            <a:ext cx="312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rogs' feet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re webbed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14400" y="2743200"/>
            <a:ext cx="679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505320" y="2895480"/>
            <a:ext cx="213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grat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744640" y="2438280"/>
            <a:ext cx="356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rogs do thi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the winter.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364920" y="2514600"/>
            <a:ext cx="258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ibernat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533320" y="2057400"/>
            <a:ext cx="4364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terdependenc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f living thing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ans this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475640" y="2209680"/>
            <a:ext cx="5514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iving things depen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n other living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ngs to liv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905120" y="2286000"/>
            <a:ext cx="573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imals living in the polar regions are often this color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437280" y="3048120"/>
            <a:ext cx="167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it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247040" y="2514600"/>
            <a:ext cx="6276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imals blend into their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urroundings becaus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f this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910960" y="2743200"/>
            <a:ext cx="316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moufl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Donna Christian</cp:lastModifiedBy>
  <dcterms:modified xsi:type="dcterms:W3CDTF">2009-12-13T20:40:59Z</dcterms:modified>
  <cp:revision>21</cp:revision>
  <dc:subject/>
  <dc:title>Jeopardy</dc:title>
</cp:coreProperties>
</file>